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dt" idx="10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body"/>
          </p:nvPr>
        </p:nvSpPr>
        <p:spPr>
          <a:xfrm>
            <a:off x="680760" y="46908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ftr" idx="11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 type="sldNum" idx="12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E03D-D1D6-42B7-8447-BC73C1BBBB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0760" y="46908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onnées de 2014 et taux croissant depuis (2015 supérieur à 201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Espace réservé du numéro de diapositive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DD91-138F-47BB-8948-108BE1C8CB2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0760" y="46908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C: subtile, pas visible à l’œil nu mais retard de croissance avec défenses immunitaires fai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0D68-976D-41A9-9268-8D01EA937E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0760" y="46908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Espace réservé du numéro de diapositive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3F46-4145-4194-AE4B-029DE922565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592A-8DBB-49D2-8A2F-605323768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9D48-8A38-42C6-9F8B-0F1E26B9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B2DE-67B7-4FB2-8DB5-5666EEBAC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F8D4-345A-488E-9BC4-03D5A06EB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E08E-324B-4983-B08F-D1928C65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1288B-FA2D-43B7-B4D9-1E9DEE6AC31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E0EA3-824F-456D-9F9D-4DC4CFE0852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E4406-ED5F-4BA1-9C9F-4E3B1D3241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EC1A9-EDA3-4647-A1D3-1140A44A19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3BC9B-177E-4076-81B5-0912599817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31D7-172A-41C4-81EC-35AE3746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4E7AD-C911-49C8-BA93-21F0F6D199A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04B09-629D-4454-A285-CFB152124A5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EAC7D-98C3-4DEF-ACAD-2A502715855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3E0E6-BFDD-4E48-88FA-9E7EB43FA14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5E3D2-4E1A-417E-8C22-DC075810A6E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1C644-1DC9-4E34-BBE1-7DDBB6AF0A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B70F7-858A-4CF1-9899-39E8E2CB0BE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1DA89B-D0A1-46B8-8241-DB74BBB3E56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127D9B-26D0-4EBB-9C3D-F8CB51C96BF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084CDE-590A-41AD-84CD-FF2364D3DA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1C53-23FB-4BF9-BE5E-BE3F9590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6B9916-EC09-4A5F-B5C0-84C45630A41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8FC35E-1DD5-4EC7-BC82-85593E57168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4B114B-E67C-4756-9589-DDA3C076CC8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827CCE-5C88-4011-A429-44FF019B88F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254CB1-2205-44D1-B31E-503B72726A7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30BE26-A514-428D-8C9F-FFF815DF41B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5F8F17-8531-4CF1-9211-70D8BE33814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4D002A-14F7-4523-941C-8865AC5F2A1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DACF8F-4249-459B-B759-9955996105B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11CDE-4EB1-4B0D-888A-6D7B24D1EF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F36E-A114-46EA-8D31-A2DAE40C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0728C-24AF-40FC-B8F8-36E0F028E15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49B1C-5BE8-40DE-BFC6-E1273E23BA2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6E010-2562-4324-A5C8-4A538D3CB75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E534A-F71A-45B2-8B4E-E79AC65A5FF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5C12E-6DF6-4F68-BCE1-B95D3ADC4B3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B306B-A160-4F5B-8E66-5B238CE6401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14E26-68E0-42E3-853D-64969803999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E88CF-08B2-4F2A-9DCA-0B686FFDAF8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A75CE-4A09-41E2-8855-4465D56ED10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C4D2E-731C-4FD8-B0B9-9BCA46D683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3273-B955-4CB3-BB3E-AF1CF36A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8B80A-4645-4B47-A488-7B8901802F7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18CF-0DBF-467E-BD4C-F59E1DDC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5329-6284-49AA-AC66-D3924259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BE33-6C04-470B-B9E2-831ABF79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E90E-FBEE-499F-8B73-FDC0A9351A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 6" descr="mappemonde-rouge-pale2.jpg"/>
          <p:cNvPicPr/>
          <p:nvPr/>
        </p:nvPicPr>
        <p:blipFill>
          <a:blip r:embed="rId2"/>
          <a:stretch/>
        </p:blipFill>
        <p:spPr>
          <a:xfrm>
            <a:off x="928800" y="0"/>
            <a:ext cx="3500280" cy="1935000"/>
          </a:xfrm>
          <a:prstGeom prst="rect">
            <a:avLst/>
          </a:prstGeom>
          <a:ln w="0">
            <a:noFill/>
          </a:ln>
        </p:spPr>
      </p:pic>
      <p:pic>
        <p:nvPicPr>
          <p:cNvPr id="42" name="Image 7" descr="logo_Gret_vFr.jpg"/>
          <p:cNvPicPr/>
          <p:nvPr/>
        </p:nvPicPr>
        <p:blipFill>
          <a:blip r:embed="rId3"/>
          <a:stretch/>
        </p:blipFill>
        <p:spPr>
          <a:xfrm>
            <a:off x="0" y="0"/>
            <a:ext cx="1357200" cy="1357200"/>
          </a:xfrm>
          <a:prstGeom prst="rect">
            <a:avLst/>
          </a:prstGeom>
          <a:ln w="0">
            <a:noFill/>
          </a:ln>
        </p:spPr>
      </p:pic>
      <p:pic>
        <p:nvPicPr>
          <p:cNvPr id="43" name="Image 8" descr="slogan-Gret-rouge.jpg"/>
          <p:cNvPicPr/>
          <p:nvPr/>
        </p:nvPicPr>
        <p:blipFill>
          <a:blip r:embed="rId4"/>
          <a:stretch/>
        </p:blipFill>
        <p:spPr>
          <a:xfrm>
            <a:off x="500040" y="6219720"/>
            <a:ext cx="8096400" cy="638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9"/>
          <p:cNvSpPr/>
          <p:nvPr/>
        </p:nvSpPr>
        <p:spPr>
          <a:xfrm>
            <a:off x="4572000" y="142920"/>
            <a:ext cx="43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 Narrow"/>
              </a:rPr>
              <a:t>Jeudi 31 mars - Ouagadoug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Connecteur droit 6"/>
          <p:cNvSpPr/>
          <p:nvPr/>
        </p:nvSpPr>
        <p:spPr>
          <a:xfrm flipH="1">
            <a:off x="571680" y="1571760"/>
            <a:ext cx="1440" cy="357120"/>
          </a:xfrm>
          <a:prstGeom prst="line">
            <a:avLst/>
          </a:prstGeom>
          <a:ln w="25560">
            <a:solidFill>
              <a:srgbClr val="c1afb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Image 7" descr="frise_photos1.jpg"/>
          <p:cNvPicPr/>
          <p:nvPr/>
        </p:nvPicPr>
        <p:blipFill>
          <a:blip r:embed="rId2"/>
          <a:stretch/>
        </p:blipFill>
        <p:spPr>
          <a:xfrm>
            <a:off x="0" y="1874880"/>
            <a:ext cx="735120" cy="4983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4"/>
          </p:nvPr>
        </p:nvSpPr>
        <p:spPr>
          <a:xfrm>
            <a:off x="0" y="1571760"/>
            <a:ext cx="571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e6442e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32C9-6070-4B20-9F0C-FAAE892679D2}" type="slidenum">
              <a:rPr b="1" lang="fr-FR" sz="1400" spc="-1" strike="noStrike">
                <a:solidFill>
                  <a:srgbClr val="e6442e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713880" y="6500520"/>
            <a:ext cx="82155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200" spc="-1" strike="noStrike">
                <a:solidFill>
                  <a:srgbClr val="b80a39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b80a39"/>
                </a:solidFill>
                <a:latin typeface="Arial Narrow"/>
              </a:rPr>
              <a:t>Pied de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tre 1"/>
          <p:cNvSpPr/>
          <p:nvPr/>
        </p:nvSpPr>
        <p:spPr>
          <a:xfrm>
            <a:off x="714240" y="6840"/>
            <a:ext cx="8429760" cy="1413000"/>
          </a:xfrm>
          <a:prstGeom prst="rect">
            <a:avLst/>
          </a:prstGeom>
          <a:solidFill>
            <a:srgbClr val="e644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  <a:ea typeface="Arial"/>
              </a:rPr>
              <a:t>Cliquez pour modifier le style du ti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onnecteur droit 7"/>
          <p:cNvSpPr/>
          <p:nvPr/>
        </p:nvSpPr>
        <p:spPr>
          <a:xfrm flipH="1">
            <a:off x="571680" y="1571760"/>
            <a:ext cx="1440" cy="357120"/>
          </a:xfrm>
          <a:prstGeom prst="line">
            <a:avLst/>
          </a:prstGeom>
          <a:ln w="25560">
            <a:solidFill>
              <a:srgbClr val="c1afb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Image 8" descr="frise_photos1.jpg"/>
          <p:cNvPicPr/>
          <p:nvPr/>
        </p:nvPicPr>
        <p:blipFill>
          <a:blip r:embed="rId2"/>
          <a:stretch/>
        </p:blipFill>
        <p:spPr>
          <a:xfrm>
            <a:off x="0" y="1874880"/>
            <a:ext cx="735120" cy="4983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6"/>
          </p:nvPr>
        </p:nvSpPr>
        <p:spPr>
          <a:xfrm>
            <a:off x="713880" y="6500520"/>
            <a:ext cx="82155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200" spc="-1" strike="noStrike">
                <a:solidFill>
                  <a:srgbClr val="b80a39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b80a39"/>
                </a:solidFill>
                <a:latin typeface="Arial Narrow"/>
              </a:rPr>
              <a:t>Pied de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7"/>
          </p:nvPr>
        </p:nvSpPr>
        <p:spPr>
          <a:xfrm>
            <a:off x="0" y="1571760"/>
            <a:ext cx="571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e6442e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E4C9-E47F-48D2-8189-BF81B739FD37}" type="slidenum">
              <a:rPr b="1" lang="fr-FR" sz="1400" spc="-1" strike="noStrike">
                <a:solidFill>
                  <a:srgbClr val="e6442e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tre 1"/>
          <p:cNvSpPr/>
          <p:nvPr/>
        </p:nvSpPr>
        <p:spPr>
          <a:xfrm>
            <a:off x="714240" y="6840"/>
            <a:ext cx="8429760" cy="1413000"/>
          </a:xfrm>
          <a:prstGeom prst="rect">
            <a:avLst/>
          </a:prstGeom>
          <a:solidFill>
            <a:srgbClr val="e644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  <a:ea typeface="Arial"/>
              </a:rPr>
              <a:t>Cliquez pour modifier le style du ti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necteur droit 7"/>
          <p:cNvSpPr/>
          <p:nvPr/>
        </p:nvSpPr>
        <p:spPr>
          <a:xfrm flipH="1">
            <a:off x="571680" y="1571760"/>
            <a:ext cx="1440" cy="357120"/>
          </a:xfrm>
          <a:prstGeom prst="line">
            <a:avLst/>
          </a:prstGeom>
          <a:ln w="25560">
            <a:solidFill>
              <a:srgbClr val="c1afb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Image 8" descr="frise_photos1.jpg"/>
          <p:cNvPicPr/>
          <p:nvPr/>
        </p:nvPicPr>
        <p:blipFill>
          <a:blip r:embed="rId2"/>
          <a:stretch/>
        </p:blipFill>
        <p:spPr>
          <a:xfrm>
            <a:off x="0" y="1874880"/>
            <a:ext cx="735120" cy="49831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8"/>
          </p:nvPr>
        </p:nvSpPr>
        <p:spPr>
          <a:xfrm>
            <a:off x="713880" y="6500520"/>
            <a:ext cx="82155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200" spc="-1" strike="noStrike">
                <a:solidFill>
                  <a:srgbClr val="b80a39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b80a39"/>
                </a:solidFill>
                <a:latin typeface="Arial Narrow"/>
              </a:rPr>
              <a:t>Pied de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9"/>
          </p:nvPr>
        </p:nvSpPr>
        <p:spPr>
          <a:xfrm>
            <a:off x="0" y="1571760"/>
            <a:ext cx="571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e6442e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6C68-6A24-444F-9F29-B32AB0C3D16B}" type="slidenum">
              <a:rPr b="1" lang="fr-FR" sz="1400" spc="-1" strike="noStrike">
                <a:solidFill>
                  <a:srgbClr val="e6442e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Image 6" descr="mappemonde-rouge-pale2.jpg"/>
          <p:cNvPicPr/>
          <p:nvPr/>
        </p:nvPicPr>
        <p:blipFill>
          <a:blip r:embed="rId2"/>
          <a:stretch/>
        </p:blipFill>
        <p:spPr>
          <a:xfrm>
            <a:off x="357120" y="0"/>
            <a:ext cx="3500640" cy="1935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7"/>
          <p:cNvSpPr/>
          <p:nvPr/>
        </p:nvSpPr>
        <p:spPr>
          <a:xfrm>
            <a:off x="4572000" y="142920"/>
            <a:ext cx="43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 Narrow"/>
              </a:rPr>
              <a:t>Date - Li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Image 6" descr="mappemonde-rouge-pale2.jpg"/>
          <p:cNvPicPr/>
          <p:nvPr/>
        </p:nvPicPr>
        <p:blipFill>
          <a:blip r:embed="rId2"/>
          <a:stretch/>
        </p:blipFill>
        <p:spPr>
          <a:xfrm>
            <a:off x="357120" y="0"/>
            <a:ext cx="3500640" cy="19350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7"/>
          <p:cNvSpPr/>
          <p:nvPr/>
        </p:nvSpPr>
        <p:spPr>
          <a:xfrm>
            <a:off x="4572000" y="142920"/>
            <a:ext cx="43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 Narrow"/>
              </a:rPr>
              <a:t>Date - Li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56800" y="2387520"/>
            <a:ext cx="7675560" cy="1470240"/>
          </a:xfrm>
          <a:prstGeom prst="rect">
            <a:avLst/>
          </a:prstGeom>
          <a:solidFill>
            <a:srgbClr val="afb782">
              <a:alpha val="8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b80a39"/>
                </a:solidFill>
                <a:latin typeface="Arial"/>
              </a:rPr>
              <a:t>« WASH in Nut »</a:t>
            </a:r>
            <a:br>
              <a:rPr sz="4400"/>
            </a:br>
            <a:r>
              <a:rPr b="1" lang="fr-FR" sz="2400" spc="-1" strike="noStrike">
                <a:solidFill>
                  <a:srgbClr val="b80a39"/>
                </a:solidFill>
                <a:latin typeface="Arial"/>
              </a:rPr>
              <a:t>Intégrer WASH et Nutrition, pourquoi et comment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856800" y="4100040"/>
            <a:ext cx="7675560" cy="900360"/>
          </a:xfrm>
          <a:prstGeom prst="rect">
            <a:avLst/>
          </a:prstGeom>
          <a:solidFill>
            <a:srgbClr val="c1afb8">
              <a:alpha val="75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f1332"/>
                </a:solidFill>
                <a:latin typeface="Arial"/>
                <a:ea typeface="Arial"/>
              </a:rPr>
              <a:t>Estelle JURE - Nutritionnis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f1332"/>
                </a:solidFill>
                <a:latin typeface="Arial"/>
                <a:ea typeface="Arial"/>
              </a:rPr>
              <a:t>Intervention au Réseau Proj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14240" y="61920"/>
            <a:ext cx="8429760" cy="1303200"/>
          </a:xfrm>
          <a:prstGeom prst="rect">
            <a:avLst/>
          </a:prstGeom>
          <a:solidFill>
            <a:srgbClr val="e6442e"/>
          </a:solidFill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Pathologies liées à l’EHA ayant un fort impact sur l’état nutrition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714240" y="1571760"/>
            <a:ext cx="84297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504d"/>
                </a:solidFill>
                <a:latin typeface="Arial"/>
                <a:ea typeface="Arial"/>
              </a:rPr>
              <a:t>Diarrhées :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très souvent d’origine fécales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 forte déshydratation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 malnutrition très rapide chez les enfants de moins de 5 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504d"/>
                </a:solidFill>
                <a:latin typeface="Arial"/>
                <a:ea typeface="Arial"/>
              </a:rPr>
              <a:t>Entéropathies environnementales :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par ingestion de selles animales (invasion à E.coli)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 diarrhées chroniques ou aigues voire sanguinol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504d"/>
                </a:solidFill>
                <a:latin typeface="Arial"/>
                <a:ea typeface="Arial"/>
              </a:rPr>
              <a:t>Parasitoses :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limitent l’absorption des micro-nutri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Espace réservé du numéro de diapositive 3"/>
          <p:cNvSpPr/>
          <p:nvPr/>
        </p:nvSpPr>
        <p:spPr>
          <a:xfrm>
            <a:off x="0" y="1571760"/>
            <a:ext cx="571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61C9-D6CD-491F-954A-BBF038AB8A34}" type="slidenum">
              <a:rPr b="1" lang="fr-FR" sz="1400" spc="-1" strike="noStrike">
                <a:solidFill>
                  <a:srgbClr val="e6442e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429760" cy="1427040"/>
          </a:xfrm>
          <a:prstGeom prst="rect">
            <a:avLst/>
          </a:prstGeom>
          <a:solidFill>
            <a:srgbClr val="e6442e"/>
          </a:solidFill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Extrait de la boîte à images Nut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Espace réservé du contenu 4" descr=""/>
          <p:cNvPicPr/>
          <p:nvPr/>
        </p:nvPicPr>
        <p:blipFill>
          <a:blip r:embed="rId1"/>
          <a:srcRect l="4824" t="0" r="16404" b="0"/>
          <a:stretch/>
        </p:blipFill>
        <p:spPr>
          <a:xfrm>
            <a:off x="1116000" y="4308480"/>
            <a:ext cx="3024360" cy="2160720"/>
          </a:xfrm>
          <a:prstGeom prst="rect">
            <a:avLst/>
          </a:prstGeom>
          <a:ln w="0">
            <a:noFill/>
          </a:ln>
        </p:spPr>
      </p:pic>
      <p:sp>
        <p:nvSpPr>
          <p:cNvPr id="348" name="Espace réservé du numéro de diapositive 3"/>
          <p:cNvSpPr/>
          <p:nvPr/>
        </p:nvSpPr>
        <p:spPr>
          <a:xfrm>
            <a:off x="0" y="1571760"/>
            <a:ext cx="571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E148-7470-49B9-BB90-7DFC40BC0165}" type="slidenum">
              <a:rPr b="1" lang="fr-FR" sz="1400" spc="-1" strike="noStrike">
                <a:solidFill>
                  <a:srgbClr val="e6442e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Image 5" descr=""/>
          <p:cNvPicPr/>
          <p:nvPr/>
        </p:nvPicPr>
        <p:blipFill>
          <a:blip r:embed="rId2"/>
          <a:srcRect l="3640" t="0" r="11144" b="0"/>
          <a:stretch/>
        </p:blipFill>
        <p:spPr>
          <a:xfrm>
            <a:off x="5313240" y="1517760"/>
            <a:ext cx="3286080" cy="2168280"/>
          </a:xfrm>
          <a:prstGeom prst="rect">
            <a:avLst/>
          </a:prstGeom>
          <a:ln w="0">
            <a:noFill/>
          </a:ln>
        </p:spPr>
      </p:pic>
      <p:pic>
        <p:nvPicPr>
          <p:cNvPr id="350" name="Image 6" descr=""/>
          <p:cNvPicPr/>
          <p:nvPr/>
        </p:nvPicPr>
        <p:blipFill>
          <a:blip r:embed="rId3"/>
          <a:srcRect l="3605" t="0" r="13502" b="0"/>
          <a:stretch/>
        </p:blipFill>
        <p:spPr>
          <a:xfrm>
            <a:off x="5288040" y="4221000"/>
            <a:ext cx="3311280" cy="2248200"/>
          </a:xfrm>
          <a:prstGeom prst="rect">
            <a:avLst/>
          </a:prstGeom>
          <a:ln w="0">
            <a:noFill/>
          </a:ln>
        </p:spPr>
      </p:pic>
      <p:pic>
        <p:nvPicPr>
          <p:cNvPr id="351" name="Image 7" descr=""/>
          <p:cNvPicPr/>
          <p:nvPr/>
        </p:nvPicPr>
        <p:blipFill>
          <a:blip r:embed="rId4"/>
          <a:srcRect l="6446" t="0" r="11220" b="0"/>
          <a:stretch/>
        </p:blipFill>
        <p:spPr>
          <a:xfrm>
            <a:off x="1060560" y="1517760"/>
            <a:ext cx="3101760" cy="2119320"/>
          </a:xfrm>
          <a:prstGeom prst="rect">
            <a:avLst/>
          </a:prstGeom>
          <a:ln w="0">
            <a:noFill/>
          </a:ln>
        </p:spPr>
      </p:pic>
      <p:sp>
        <p:nvSpPr>
          <p:cNvPr id="352" name="ZoneTexte 8"/>
          <p:cNvSpPr/>
          <p:nvPr/>
        </p:nvSpPr>
        <p:spPr>
          <a:xfrm>
            <a:off x="1060560" y="3670200"/>
            <a:ext cx="30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 - Hygiène de l’eau et des ali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ZoneTexte 9"/>
          <p:cNvSpPr/>
          <p:nvPr/>
        </p:nvSpPr>
        <p:spPr>
          <a:xfrm>
            <a:off x="5003640" y="367992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 - Hygiène corporelle et vestimen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ZoneTexte 10"/>
          <p:cNvSpPr/>
          <p:nvPr/>
        </p:nvSpPr>
        <p:spPr>
          <a:xfrm>
            <a:off x="1060560" y="6438960"/>
            <a:ext cx="307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- Hygiène des m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ZoneTexte 11"/>
          <p:cNvSpPr/>
          <p:nvPr/>
        </p:nvSpPr>
        <p:spPr>
          <a:xfrm>
            <a:off x="5003640" y="64882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 - Hygiène du cadre de 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429760" cy="1427040"/>
          </a:xfrm>
          <a:prstGeom prst="rect">
            <a:avLst/>
          </a:prstGeom>
          <a:solidFill>
            <a:srgbClr val="e6442e"/>
          </a:solidFill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Interventions WASH clés pour réduire le retard de croiss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714240" y="1571760"/>
            <a:ext cx="84297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cf13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Assainissement amélioré : utilisation de toilettes et latr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cf13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Lavage des mains au sav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cf13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Arrivée d’eau à la mai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cf13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Evacuation hygiénique des selles des enf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cf13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Sources d’eau amélioré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Espace réservé du numéro de diapositive 3"/>
          <p:cNvSpPr/>
          <p:nvPr/>
        </p:nvSpPr>
        <p:spPr>
          <a:xfrm>
            <a:off x="0" y="1571760"/>
            <a:ext cx="571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1DF4-28FB-4C7B-AF56-D154911E1139}" type="slidenum">
              <a:rPr b="1" lang="fr-FR" sz="1400" spc="-1" strike="noStrike">
                <a:solidFill>
                  <a:srgbClr val="e6442e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14240" y="338040"/>
            <a:ext cx="8429760" cy="750960"/>
          </a:xfrm>
          <a:prstGeom prst="rect">
            <a:avLst/>
          </a:prstGeom>
          <a:solidFill>
            <a:srgbClr val="e6442e"/>
          </a:solidFill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Expériences WASH in N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714240" y="1122480"/>
            <a:ext cx="8429760" cy="57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f1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  <a:ea typeface="Arial"/>
              </a:rPr>
              <a:t>Point d’approvisionnement d’eau améliorée à moins de 30min du domici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c00000"/>
                </a:solidFill>
                <a:latin typeface="Arial"/>
                <a:ea typeface="Arial"/>
              </a:rPr>
              <a:t>(accompagnée de promotion du transport et du stockage de l’eau à domicile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réduit de 17% l’incidence de la diarrhé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f1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f1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  <a:ea typeface="Arial"/>
              </a:rPr>
              <a:t>Lavage des mains aux points de contact critiqu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réduit de 48% l’incidence de la diarrhé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f1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f1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  <a:ea typeface="Arial"/>
              </a:rPr>
              <a:t>Utilisation d’installations d’assainissement amélioré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réduit de 36% l’incidence de la diarrhé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f1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f1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  <a:ea typeface="Arial"/>
              </a:rPr>
              <a:t>Raccordement d’eau canalisée dans la cou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réduit de 63% l’incidence de la diarrhé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Espace réservé du numéro de diapositive 3"/>
          <p:cNvSpPr/>
          <p:nvPr/>
        </p:nvSpPr>
        <p:spPr>
          <a:xfrm>
            <a:off x="0" y="1571760"/>
            <a:ext cx="571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72D0-DB1D-4416-97DE-AFB76B4739EE}" type="slidenum">
              <a:rPr b="1" lang="fr-FR" sz="1400" spc="-1" strike="noStrike">
                <a:solidFill>
                  <a:srgbClr val="e6442e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7943760" y="2639880"/>
            <a:ext cx="120024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Espace réservé du numéro de diapositive 3"/>
          <p:cNvSpPr/>
          <p:nvPr/>
        </p:nvSpPr>
        <p:spPr>
          <a:xfrm>
            <a:off x="0" y="1571760"/>
            <a:ext cx="571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62B6-971D-47FC-B437-C7319DA2C801}" type="slidenum">
              <a:rPr b="1" lang="fr-FR" sz="1400" spc="-1" strike="noStrike">
                <a:solidFill>
                  <a:srgbClr val="e6442e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Ovale 4"/>
          <p:cNvGrpSpPr/>
          <p:nvPr/>
        </p:nvGrpSpPr>
        <p:grpSpPr>
          <a:xfrm>
            <a:off x="4645080" y="1279440"/>
            <a:ext cx="3419280" cy="2311560"/>
            <a:chOff x="4645080" y="1279440"/>
            <a:chExt cx="3419280" cy="2311560"/>
          </a:xfrm>
        </p:grpSpPr>
        <p:pic>
          <p:nvPicPr>
            <p:cNvPr id="365" name="Ovale 4" descr=""/>
            <p:cNvPicPr/>
            <p:nvPr/>
          </p:nvPicPr>
          <p:blipFill>
            <a:blip r:embed="rId1"/>
            <a:stretch/>
          </p:blipFill>
          <p:spPr>
            <a:xfrm>
              <a:off x="4645080" y="1279440"/>
              <a:ext cx="34192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5153040" y="1627200"/>
              <a:ext cx="240336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00"/>
                  </a:solidFill>
                  <a:latin typeface="Calibri"/>
                </a:rPr>
                <a:t>Sant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Ovale 7"/>
          <p:cNvSpPr/>
          <p:nvPr/>
        </p:nvSpPr>
        <p:spPr>
          <a:xfrm>
            <a:off x="6019920" y="2971800"/>
            <a:ext cx="3124080" cy="2303640"/>
          </a:xfrm>
          <a:prstGeom prst="ellipse">
            <a:avLst/>
          </a:prstGeom>
          <a:gradFill rotWithShape="0">
            <a:gsLst>
              <a:gs pos="0">
                <a:srgbClr val="98baf6"/>
              </a:gs>
              <a:gs pos="100000">
                <a:srgbClr val="e0e9fb"/>
              </a:gs>
            </a:gsLst>
            <a:lin ang="10800000"/>
          </a:gra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    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Protection</a:t>
            </a:r>
            <a:br>
              <a:rPr sz="2400"/>
            </a:b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        soc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0"/>
          <p:cNvSpPr/>
          <p:nvPr/>
        </p:nvSpPr>
        <p:spPr>
          <a:xfrm>
            <a:off x="4098600" y="3624840"/>
            <a:ext cx="1911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Retard de</a:t>
            </a:r>
            <a:br>
              <a:rPr sz="2600"/>
            </a:b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croiss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e 5"/>
          <p:cNvSpPr/>
          <p:nvPr/>
        </p:nvSpPr>
        <p:spPr>
          <a:xfrm>
            <a:off x="2165400" y="1219320"/>
            <a:ext cx="3435480" cy="2438280"/>
          </a:xfrm>
          <a:prstGeom prst="ellipse">
            <a:avLst/>
          </a:prstGeom>
          <a:gradFill rotWithShape="0">
            <a:gsLst>
              <a:gs pos="0">
                <a:srgbClr val="cb9a99"/>
              </a:gs>
              <a:gs pos="100000">
                <a:srgbClr val="eee1e1"/>
              </a:gs>
            </a:gsLst>
            <a:lin ang="0"/>
          </a:gra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c00000"/>
                </a:solidFill>
                <a:latin typeface="Calibri"/>
              </a:rPr>
              <a:t>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e 5"/>
          <p:cNvSpPr/>
          <p:nvPr/>
        </p:nvSpPr>
        <p:spPr>
          <a:xfrm>
            <a:off x="757080" y="2590920"/>
            <a:ext cx="3436920" cy="2438280"/>
          </a:xfrm>
          <a:prstGeom prst="ellipse">
            <a:avLst/>
          </a:prstGeom>
          <a:gradFill rotWithShape="0">
            <a:gsLst>
              <a:gs pos="0">
                <a:srgbClr val="cb9a99"/>
              </a:gs>
              <a:gs pos="100000">
                <a:srgbClr val="eee1e1"/>
              </a:gs>
            </a:gsLst>
            <a:lin ang="0"/>
          </a:gra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c00000"/>
                </a:solidFill>
                <a:latin typeface="Calibri"/>
              </a:rPr>
              <a:t>Eau, Hygiène et Assainiss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e 6"/>
          <p:cNvSpPr/>
          <p:nvPr/>
        </p:nvSpPr>
        <p:spPr>
          <a:xfrm>
            <a:off x="1727280" y="4343400"/>
            <a:ext cx="3530520" cy="2478240"/>
          </a:xfrm>
          <a:prstGeom prst="ellipse">
            <a:avLst/>
          </a:prstGeom>
          <a:gradFill rotWithShape="0">
            <a:gsLst>
              <a:gs pos="0">
                <a:srgbClr val="aca2bb"/>
              </a:gs>
              <a:gs pos="100000">
                <a:srgbClr val="e6e3ea"/>
              </a:gs>
            </a:gsLst>
            <a:lin ang="16200000"/>
          </a:gra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4a7b"/>
                </a:solidFill>
                <a:latin typeface="Calibri"/>
              </a:rPr>
              <a:t>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e 7"/>
          <p:cNvSpPr/>
          <p:nvPr/>
        </p:nvSpPr>
        <p:spPr>
          <a:xfrm>
            <a:off x="4724280" y="4419720"/>
            <a:ext cx="3394080" cy="2420640"/>
          </a:xfrm>
          <a:prstGeom prst="ellipse">
            <a:avLst/>
          </a:prstGeom>
          <a:gradFill rotWithShape="0">
            <a:gsLst>
              <a:gs pos="0">
                <a:srgbClr val="c4bd97"/>
              </a:gs>
              <a:gs pos="100000">
                <a:srgbClr val="e0e9fb"/>
              </a:gs>
            </a:gsLst>
            <a:lin ang="10800000"/>
          </a:gra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5e"/>
                </a:solidFill>
                <a:latin typeface="Calibri"/>
              </a:rPr>
              <a:t>Agri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13" descr=""/>
          <p:cNvPicPr/>
          <p:nvPr/>
        </p:nvPicPr>
        <p:blipFill>
          <a:blip r:embed="rId2"/>
          <a:stretch/>
        </p:blipFill>
        <p:spPr>
          <a:xfrm>
            <a:off x="3236760" y="1420920"/>
            <a:ext cx="1106640" cy="7887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4" descr=""/>
          <p:cNvPicPr/>
          <p:nvPr/>
        </p:nvPicPr>
        <p:blipFill>
          <a:blip r:embed="rId3"/>
          <a:stretch/>
        </p:blipFill>
        <p:spPr>
          <a:xfrm>
            <a:off x="2684520" y="4654440"/>
            <a:ext cx="1752480" cy="11667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5" descr=""/>
          <p:cNvPicPr/>
          <p:nvPr/>
        </p:nvPicPr>
        <p:blipFill>
          <a:blip r:embed="rId4"/>
          <a:stretch/>
        </p:blipFill>
        <p:spPr>
          <a:xfrm>
            <a:off x="7039080" y="3146400"/>
            <a:ext cx="1023840" cy="693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2" descr=""/>
          <p:cNvPicPr/>
          <p:nvPr/>
        </p:nvPicPr>
        <p:blipFill>
          <a:blip r:embed="rId5"/>
          <a:stretch/>
        </p:blipFill>
        <p:spPr>
          <a:xfrm>
            <a:off x="5562720" y="4770360"/>
            <a:ext cx="1699920" cy="11574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7" descr=""/>
          <p:cNvPicPr/>
          <p:nvPr/>
        </p:nvPicPr>
        <p:blipFill>
          <a:blip r:embed="rId6"/>
          <a:stretch/>
        </p:blipFill>
        <p:spPr>
          <a:xfrm>
            <a:off x="1828800" y="2743200"/>
            <a:ext cx="1208160" cy="9050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"/>
          <p:cNvPicPr/>
          <p:nvPr/>
        </p:nvPicPr>
        <p:blipFill>
          <a:blip r:embed="rId7"/>
          <a:stretch/>
        </p:blipFill>
        <p:spPr>
          <a:xfrm>
            <a:off x="5823000" y="1481040"/>
            <a:ext cx="1224000" cy="94464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26"/>
          <p:cNvSpPr/>
          <p:nvPr/>
        </p:nvSpPr>
        <p:spPr>
          <a:xfrm>
            <a:off x="571680" y="93600"/>
            <a:ext cx="8519760" cy="1498680"/>
          </a:xfrm>
          <a:prstGeom prst="rect">
            <a:avLst/>
          </a:prstGeom>
          <a:solidFill>
            <a:srgbClr val="ffcc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a nutrition ne peut à elle seule répondre aux défis du retard de croissance :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une réponse multisectorielle est nécessaire et cruc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999880" y="2492280"/>
            <a:ext cx="5286600" cy="1470240"/>
          </a:xfrm>
          <a:prstGeom prst="rect">
            <a:avLst/>
          </a:prstGeom>
          <a:solidFill>
            <a:srgbClr val="afb782">
              <a:alpha val="8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b80a39"/>
                </a:solidFill>
                <a:latin typeface="Arial"/>
              </a:rPr>
              <a:t>Contex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999880" y="4100040"/>
            <a:ext cx="5286600" cy="900360"/>
          </a:xfrm>
          <a:prstGeom prst="rect">
            <a:avLst/>
          </a:prstGeom>
          <a:solidFill>
            <a:srgbClr val="c1afb8">
              <a:alpha val="75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f1332"/>
                </a:solidFill>
                <a:latin typeface="Arial"/>
                <a:ea typeface="Arial"/>
              </a:rPr>
              <a:t>La malnutrition au Burkina Fa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14240" y="338040"/>
            <a:ext cx="8429760" cy="750960"/>
          </a:xfrm>
          <a:prstGeom prst="rect">
            <a:avLst/>
          </a:prstGeom>
          <a:solidFill>
            <a:srgbClr val="e6442e"/>
          </a:solidFill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Quelques chiff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14240" y="1571760"/>
            <a:ext cx="84297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cf1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Près d’1 enfant sur 3 atteint de malnutrition chron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cf1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La malnutrition est à l’origine de 45% des décès des enfants de moins de 5 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cf1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cf1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50 % des cas de malnutrition sont associés à des infections; à des conditions d’hygiène insuffisantes ou à l’insalubrité de l’eau et à l’inexistence de l’assainiss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Espace réservé du numéro de diapositive 3"/>
          <p:cNvSpPr/>
          <p:nvPr/>
        </p:nvSpPr>
        <p:spPr>
          <a:xfrm>
            <a:off x="0" y="1571760"/>
            <a:ext cx="571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41C3-86C9-4E91-83CA-35326B80245C}" type="slidenum">
              <a:rPr b="1" lang="fr-FR" sz="1400" spc="-1" strike="noStrike">
                <a:solidFill>
                  <a:srgbClr val="e6442e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14240" y="338040"/>
            <a:ext cx="8429760" cy="750960"/>
          </a:xfrm>
          <a:prstGeom prst="rect">
            <a:avLst/>
          </a:prstGeom>
          <a:solidFill>
            <a:srgbClr val="e6442e"/>
          </a:solidFill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Types de malnut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713880" y="1413000"/>
            <a:ext cx="79614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0504d"/>
                </a:solidFill>
                <a:latin typeface="Arial"/>
                <a:ea typeface="Arial"/>
              </a:rPr>
              <a:t>Malnutrition par carences en micro-nutriments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(Fer, Iode, Zinc, Vitamine 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0504d"/>
                </a:solidFill>
                <a:latin typeface="Arial"/>
                <a:ea typeface="Arial"/>
              </a:rPr>
              <a:t>Malnutrition chronique (= retard de croissance) :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rapport taille/âg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« il est petit pour son âge 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défenses immunitaires affai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0504d"/>
                </a:solidFill>
                <a:latin typeface="Arial"/>
                <a:ea typeface="Arial"/>
              </a:rPr>
              <a:t>Malnutrition aigue :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rapport poids/tail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« il est trop maigre 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On distingue MAM et MAS </a:t>
            </a: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fort risque de mortalit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4" descr="FIg"/>
          <p:cNvPicPr/>
          <p:nvPr/>
        </p:nvPicPr>
        <p:blipFill>
          <a:blip r:embed="rId1"/>
          <a:stretch/>
        </p:blipFill>
        <p:spPr>
          <a:xfrm>
            <a:off x="7380360" y="2276640"/>
            <a:ext cx="16495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14240" y="338040"/>
            <a:ext cx="8429760" cy="750960"/>
          </a:xfrm>
          <a:prstGeom prst="rect">
            <a:avLst/>
          </a:prstGeom>
          <a:solidFill>
            <a:srgbClr val="e6442e"/>
          </a:solidFill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Taux de pré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Espace réservé du numéro de diapositive 3"/>
          <p:cNvSpPr/>
          <p:nvPr/>
        </p:nvSpPr>
        <p:spPr>
          <a:xfrm>
            <a:off x="0" y="1571760"/>
            <a:ext cx="571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77D1-E2FB-4BB6-96BE-EC99A34BF829}" type="slidenum">
              <a:rPr b="1" lang="fr-FR" sz="1400" spc="-1" strike="noStrike">
                <a:solidFill>
                  <a:srgbClr val="e6442e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Espace réservé du contenu 4" descr=""/>
          <p:cNvPicPr/>
          <p:nvPr/>
        </p:nvPicPr>
        <p:blipFill>
          <a:blip r:embed="rId1"/>
          <a:stretch/>
        </p:blipFill>
        <p:spPr>
          <a:xfrm>
            <a:off x="706320" y="1262160"/>
            <a:ext cx="844416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429760" cy="1427040"/>
          </a:xfrm>
          <a:prstGeom prst="rect">
            <a:avLst/>
          </a:prstGeom>
          <a:solidFill>
            <a:srgbClr val="e6442e"/>
          </a:solidFill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Conséquences de la malnut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713880" y="1699920"/>
            <a:ext cx="841212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cf1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La mortalité infanto-juvén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cf1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Le développement de l’enfant (intellectuel, cognitif et pubertai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cf1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Une taille adulte plus pet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cf1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Risque de mourir de maladies infectieuses multiplié par 1,4 à 1,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cf1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Grossesses et accouchements diffic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cf1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La santé à l’âge adulte (HTA, diabète, cancers, obésité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Espace réservé du numéro de diapositive 3"/>
          <p:cNvSpPr/>
          <p:nvPr/>
        </p:nvSpPr>
        <p:spPr>
          <a:xfrm>
            <a:off x="0" y="1571760"/>
            <a:ext cx="571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18F7-C6DF-405B-BABC-9B12E85A203C}" type="slidenum">
              <a:rPr b="1" lang="fr-FR" sz="1400" spc="-1" strike="noStrike">
                <a:solidFill>
                  <a:srgbClr val="e6442e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999880" y="2387520"/>
            <a:ext cx="5286600" cy="1470240"/>
          </a:xfrm>
          <a:prstGeom prst="rect">
            <a:avLst/>
          </a:prstGeom>
          <a:solidFill>
            <a:srgbClr val="afb782">
              <a:alpha val="8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b80a39"/>
                </a:solidFill>
                <a:latin typeface="Arial"/>
              </a:rPr>
              <a:t>Lien entre EHA et Nutri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2999880" y="4100040"/>
            <a:ext cx="5286600" cy="900360"/>
          </a:xfrm>
          <a:prstGeom prst="rect">
            <a:avLst/>
          </a:prstGeom>
          <a:solidFill>
            <a:srgbClr val="c1afb8">
              <a:alpha val="75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cf1332"/>
                </a:solidFill>
                <a:latin typeface="Arial"/>
                <a:ea typeface="Arial"/>
              </a:rPr>
              <a:t>Quels ponts entre WASH in Nut ?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Espace réservé du numéro de diapositive 3"/>
          <p:cNvSpPr/>
          <p:nvPr/>
        </p:nvSpPr>
        <p:spPr>
          <a:xfrm>
            <a:off x="0" y="1571760"/>
            <a:ext cx="571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3CE8-5AA7-4A36-870D-74B9CA025B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429760" cy="1427040"/>
          </a:xfrm>
          <a:prstGeom prst="rect">
            <a:avLst/>
          </a:prstGeom>
          <a:solidFill>
            <a:srgbClr val="e6442e"/>
          </a:solidFill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Facteurs déterminants de la malnut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Espace réservé du numéro de diapositive 3"/>
          <p:cNvSpPr/>
          <p:nvPr/>
        </p:nvSpPr>
        <p:spPr>
          <a:xfrm>
            <a:off x="0" y="1571760"/>
            <a:ext cx="571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E6B3-E4A1-4276-9A95-BA482AA8794F}" type="slidenum">
              <a:rPr b="1" lang="fr-FR" sz="1400" spc="-1" strike="noStrike">
                <a:solidFill>
                  <a:srgbClr val="e6442e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e 4"/>
          <p:cNvGrpSpPr/>
          <p:nvPr/>
        </p:nvGrpSpPr>
        <p:grpSpPr>
          <a:xfrm>
            <a:off x="441360" y="1700280"/>
            <a:ext cx="8702640" cy="4716360"/>
            <a:chOff x="441360" y="1700280"/>
            <a:chExt cx="8702640" cy="4716360"/>
          </a:xfrm>
        </p:grpSpPr>
        <p:sp>
          <p:nvSpPr>
            <p:cNvPr id="320" name="Text Box 2"/>
            <p:cNvSpPr/>
            <p:nvPr/>
          </p:nvSpPr>
          <p:spPr>
            <a:xfrm>
              <a:off x="441360" y="4067640"/>
              <a:ext cx="2115720" cy="886680"/>
            </a:xfrm>
            <a:prstGeom prst="rect">
              <a:avLst/>
            </a:prstGeom>
            <a:solidFill>
              <a:srgbClr val="60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ffffff"/>
                  </a:solidFill>
                  <a:latin typeface="Calibri"/>
                </a:rPr>
                <a:t>Causes sous-jace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ffffff"/>
                  </a:solidFill>
                  <a:latin typeface="Calibri"/>
                </a:rPr>
                <a:t>Niveau mén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5"/>
            <p:cNvSpPr/>
            <p:nvPr/>
          </p:nvSpPr>
          <p:spPr>
            <a:xfrm>
              <a:off x="3297960" y="2919240"/>
              <a:ext cx="2039400" cy="623160"/>
            </a:xfrm>
            <a:prstGeom prst="rect">
              <a:avLst/>
            </a:prstGeom>
            <a:solidFill>
              <a:srgbClr val="efe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pports alimentaires insuffisa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6393960" y="2918520"/>
              <a:ext cx="1687320" cy="624600"/>
            </a:xfrm>
            <a:prstGeom prst="rect">
              <a:avLst/>
            </a:prstGeom>
            <a:solidFill>
              <a:srgbClr val="efe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alad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10"/>
            <p:cNvSpPr/>
            <p:nvPr/>
          </p:nvSpPr>
          <p:spPr>
            <a:xfrm>
              <a:off x="441360" y="2926800"/>
              <a:ext cx="2115720" cy="653760"/>
            </a:xfrm>
            <a:prstGeom prst="rect">
              <a:avLst/>
            </a:prstGeom>
            <a:solidFill>
              <a:srgbClr val="efe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Calibri"/>
                </a:rPr>
                <a:t>Causes immédia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Calibri"/>
                </a:rPr>
                <a:t>Niveau individu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11"/>
            <p:cNvSpPr/>
            <p:nvPr/>
          </p:nvSpPr>
          <p:spPr>
            <a:xfrm>
              <a:off x="441360" y="5505120"/>
              <a:ext cx="2115720" cy="9115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Calibri"/>
                </a:rPr>
                <a:t>Causes basiqu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19"/>
            <p:cNvSpPr/>
            <p:nvPr/>
          </p:nvSpPr>
          <p:spPr>
            <a:xfrm>
              <a:off x="5619960" y="3231000"/>
              <a:ext cx="52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"/>
            <p:cNvSpPr/>
            <p:nvPr/>
          </p:nvSpPr>
          <p:spPr>
            <a:xfrm>
              <a:off x="6676200" y="3673080"/>
              <a:ext cx="2467800" cy="1601280"/>
            </a:xfrm>
            <a:prstGeom prst="ellipse">
              <a:avLst/>
            </a:prstGeom>
            <a:solidFill>
              <a:srgbClr val="60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Environnement insalubre et services de santé inadapté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7" name="Straight Arrow Connector 26"/>
            <p:cNvCxnSpPr/>
            <p:nvPr/>
          </p:nvCxnSpPr>
          <p:spPr>
            <a:xfrm flipV="1">
              <a:off x="4844880" y="2674800"/>
              <a:ext cx="372600" cy="221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328" name="Straight Arrow Connector 27"/>
            <p:cNvCxnSpPr/>
            <p:nvPr/>
          </p:nvCxnSpPr>
          <p:spPr>
            <a:xfrm flipH="1" flipV="1">
              <a:off x="6675840" y="2605680"/>
              <a:ext cx="385200" cy="27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329" name="Oval 7"/>
            <p:cNvSpPr/>
            <p:nvPr/>
          </p:nvSpPr>
          <p:spPr>
            <a:xfrm>
              <a:off x="4731480" y="1700280"/>
              <a:ext cx="2392920" cy="1077840"/>
            </a:xfrm>
            <a:prstGeom prst="ellipse">
              <a:avLst/>
            </a:prstGeom>
            <a:solidFill>
              <a:srgbClr val="b95b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Malnutrition maternelle et infanti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5"/>
            <p:cNvSpPr/>
            <p:nvPr/>
          </p:nvSpPr>
          <p:spPr>
            <a:xfrm>
              <a:off x="2748600" y="5505120"/>
              <a:ext cx="6359040" cy="9115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essources humaines, économiques, organisationnel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ontexte socio-culturel, économique, polit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"/>
            <p:cNvSpPr/>
            <p:nvPr/>
          </p:nvSpPr>
          <p:spPr>
            <a:xfrm>
              <a:off x="4694040" y="3673080"/>
              <a:ext cx="2467800" cy="1601280"/>
            </a:xfrm>
            <a:prstGeom prst="ellipse">
              <a:avLst/>
            </a:prstGeom>
            <a:solidFill>
              <a:srgbClr val="60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Pratiques de soins maternelles et infantiles inadapté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"/>
            <p:cNvSpPr/>
            <p:nvPr/>
          </p:nvSpPr>
          <p:spPr>
            <a:xfrm>
              <a:off x="2689560" y="3673080"/>
              <a:ext cx="2467800" cy="1601280"/>
            </a:xfrm>
            <a:prstGeom prst="ellipse">
              <a:avLst/>
            </a:prstGeom>
            <a:solidFill>
              <a:srgbClr val="60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Insécurité alimentaire (disponibilité, accè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16"/>
            <p:cNvSpPr/>
            <p:nvPr/>
          </p:nvSpPr>
          <p:spPr>
            <a:xfrm flipV="1">
              <a:off x="3124440" y="3459960"/>
              <a:ext cx="307080" cy="27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7"/>
            <p:cNvSpPr/>
            <p:nvPr/>
          </p:nvSpPr>
          <p:spPr>
            <a:xfrm flipH="1" flipV="1">
              <a:off x="8128440" y="3459960"/>
              <a:ext cx="432360" cy="30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8"/>
            <p:cNvSpPr/>
            <p:nvPr/>
          </p:nvSpPr>
          <p:spPr>
            <a:xfrm flipV="1">
              <a:off x="5928120" y="3381480"/>
              <a:ext cx="0" cy="29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8"/>
            <p:cNvSpPr/>
            <p:nvPr/>
          </p:nvSpPr>
          <p:spPr>
            <a:xfrm flipV="1">
              <a:off x="5928120" y="5128200"/>
              <a:ext cx="0" cy="41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7"/>
            <p:cNvSpPr/>
            <p:nvPr/>
          </p:nvSpPr>
          <p:spPr>
            <a:xfrm flipV="1">
              <a:off x="7378560" y="5158440"/>
              <a:ext cx="242280" cy="35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6"/>
            <p:cNvSpPr/>
            <p:nvPr/>
          </p:nvSpPr>
          <p:spPr>
            <a:xfrm flipH="1" flipV="1">
              <a:off x="4002120" y="5158440"/>
              <a:ext cx="192240" cy="35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9" name="Flèche vers le bas 25" descr=""/>
          <p:cNvPicPr/>
          <p:nvPr/>
        </p:nvPicPr>
        <p:blipFill>
          <a:blip r:embed="rId1"/>
          <a:stretch/>
        </p:blipFill>
        <p:spPr>
          <a:xfrm>
            <a:off x="7077240" y="1731960"/>
            <a:ext cx="21636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14240" y="338040"/>
            <a:ext cx="8429760" cy="750960"/>
          </a:xfrm>
          <a:prstGeom prst="rect">
            <a:avLst/>
          </a:prstGeom>
          <a:solidFill>
            <a:srgbClr val="e6442e"/>
          </a:solidFill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Un cercle vicie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Espace réservé du numéro de diapositive 3"/>
          <p:cNvSpPr/>
          <p:nvPr/>
        </p:nvSpPr>
        <p:spPr>
          <a:xfrm>
            <a:off x="0" y="1571760"/>
            <a:ext cx="571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6700-BA41-4059-990C-7C099B9E7067}" type="slidenum">
              <a:rPr b="1" lang="fr-FR" sz="1400" spc="-1" strike="noStrike">
                <a:solidFill>
                  <a:srgbClr val="e6442e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Diagramme 4" descr=""/>
          <p:cNvPicPr/>
          <p:nvPr/>
        </p:nvPicPr>
        <p:blipFill>
          <a:blip r:embed="rId1"/>
          <a:stretch/>
        </p:blipFill>
        <p:spPr>
          <a:xfrm>
            <a:off x="1884240" y="1908000"/>
            <a:ext cx="609624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7T09:42:10Z</dcterms:created>
  <dc:creator>Marie-Christine Lebret</dc:creator>
  <dc:description/>
  <dc:language>en-US</dc:language>
  <cp:lastModifiedBy>ARP Stagiaire 2</cp:lastModifiedBy>
  <cp:lastPrinted>2016-03-29T12:51:51Z</cp:lastPrinted>
  <dcterms:modified xsi:type="dcterms:W3CDTF">2016-04-29T13:48:24Z</dcterms:modified>
  <cp:revision>24</cp:revision>
  <dc:subject/>
  <dc:title>Présentation PowerPoint</dc:title>
</cp:coreProperties>
</file>